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BEC3-099B-462C-9806-4873D94F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956B-E0E0-4FE4-8639-62E20C68E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6028-8975-4714-B6B7-A1501D91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2C54-8427-4EBA-93CF-5CCB9C31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301F-DCB0-4A9E-8251-DD911C2B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1914-319F-4E81-90D2-6EC9BCBAB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F5D6-577A-4173-893A-6219DAC1B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B65A-4810-41D5-B9B6-8CC9A41C1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2F0B-C0C5-40F4-9863-21B345E9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9DA5-5300-43F2-AC02-07B268F66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F0A6-9C3E-431C-AD29-36E6BFFA1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58E0-03BD-47DF-8BF2-61218E338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E9B-5643-4B3D-80D3-1F49B10E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D50-A0D2-49A1-AC1E-5A0344FD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467-61AB-4FBA-B9BC-38220AE9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634-F0A3-4762-9993-795175B7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79D-9958-4A0E-9DDA-58D5948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60A-0E8B-400E-89A2-82A0FFA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51F-F1E2-4DE2-B56C-CE88C806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0A4-48EC-4BBA-9FD6-9879286D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B48-2A8D-432F-A747-A5375F0B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EFE-5CD6-4238-A7CC-97EC42EF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90C-71BA-4FC7-B0C1-1ED32A9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5A6-6D00-4BED-BB9E-410AB451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BE97-B292-4A84-BADC-46ECFF3EF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Republic of the Union of Myanmar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lectricity Sector Financial and Regulatory Issu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8 May 2016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b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Myanmar Energy Team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he World Bank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6E52-A17B-495E-AE7F-5E9A22B06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"/>
          <p:cNvPicPr/>
          <p:nvPr/>
        </p:nvPicPr>
        <p:blipFill>
          <a:blip r:embed="rId1"/>
          <a:stretch/>
        </p:blipFill>
        <p:spPr>
          <a:xfrm>
            <a:off x="3105000" y="762120"/>
            <a:ext cx="5734080" cy="6057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xample: Thailand Electricity Tariff Structur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72BA-F7C1-4A0A-8D33-965C06CE3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Brace 2"/>
          <p:cNvSpPr/>
          <p:nvPr/>
        </p:nvSpPr>
        <p:spPr>
          <a:xfrm>
            <a:off x="5715000" y="2624040"/>
            <a:ext cx="914400" cy="1338480"/>
          </a:xfrm>
          <a:custGeom>
            <a:avLst/>
            <a:gdLst>
              <a:gd name="textAreaLeft" fmla="*/ 0 w 914400"/>
              <a:gd name="textAreaRight" fmla="*/ 330120 w 914400"/>
              <a:gd name="textAreaTop" fmla="*/ 23760 h 1338480"/>
              <a:gd name="textAreaBottom" fmla="*/ 1314720 h 13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5"/>
                  <a:pt x="10800" y="1230"/>
                </a:cubicBezTo>
                <a:lnTo>
                  <a:pt x="10800" y="9570"/>
                </a:lnTo>
                <a:cubicBezTo>
                  <a:pt x="10800" y="10185"/>
                  <a:pt x="16200" y="10800"/>
                  <a:pt x="21600" y="10800"/>
                </a:cubicBezTo>
                <a:cubicBezTo>
                  <a:pt x="16200" y="10800"/>
                  <a:pt x="10800" y="11415"/>
                  <a:pt x="10800" y="12030"/>
                </a:cubicBezTo>
                <a:lnTo>
                  <a:pt x="10800" y="20370"/>
                </a:lnTo>
                <a:cubicBezTo>
                  <a:pt x="10800" y="2098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ight Brace 4"/>
          <p:cNvSpPr/>
          <p:nvPr/>
        </p:nvSpPr>
        <p:spPr>
          <a:xfrm>
            <a:off x="5715000" y="5715000"/>
            <a:ext cx="914400" cy="609480"/>
          </a:xfrm>
          <a:custGeom>
            <a:avLst/>
            <a:gdLst>
              <a:gd name="textAreaLeft" fmla="*/ 0 w 914400"/>
              <a:gd name="textAreaRight" fmla="*/ 330120 w 9144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Brace 5"/>
          <p:cNvSpPr/>
          <p:nvPr/>
        </p:nvSpPr>
        <p:spPr>
          <a:xfrm>
            <a:off x="5562720" y="1947960"/>
            <a:ext cx="914400" cy="380880"/>
          </a:xfrm>
          <a:custGeom>
            <a:avLst/>
            <a:gdLst>
              <a:gd name="textAreaLeft" fmla="*/ 0 w 914400"/>
              <a:gd name="textAreaRight" fmla="*/ 330120 w 9144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228600" y="1459080"/>
            <a:ext cx="2743200" cy="51260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 off at 150 kWh/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charge only (no demand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-13 US cents/k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150 kWh “limited cross-subsidies” for 30 kWh…still cover variable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50 kWh tariffs fully cover cost. Vary pro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U 7-17 US cents/k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379080" y="990720"/>
            <a:ext cx="239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Residential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"/>
          <p:cNvPicPr/>
          <p:nvPr/>
        </p:nvPicPr>
        <p:blipFill>
          <a:blip r:embed="rId1"/>
          <a:stretch/>
        </p:blipFill>
        <p:spPr>
          <a:xfrm>
            <a:off x="2286000" y="1619280"/>
            <a:ext cx="6780240" cy="4357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xample: Thailand Electricity Tariff Structure (cont.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41F1-BDD4-4FA3-8A7A-2A29D8E1F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4419720" y="1123920"/>
            <a:ext cx="24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emand &gt; 1000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76320" y="1598760"/>
            <a:ext cx="2133360" cy="34484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of Da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 demand shift to partial peak and off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energy charge rates as Medium Users (30-1000 k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6"/>
          <p:cNvSpPr/>
          <p:nvPr/>
        </p:nvSpPr>
        <p:spPr>
          <a:xfrm>
            <a:off x="4681440" y="2895480"/>
            <a:ext cx="2667240" cy="1447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301120" y="1154160"/>
            <a:ext cx="197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Users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xample: Thailand Electricity Tariff Structure (cont.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B0FF-3AE0-4228-AA1E-8C44A3F59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4419720" y="1123920"/>
            <a:ext cx="24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Demand &gt; 1000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76320" y="1598760"/>
            <a:ext cx="2133360" cy="36010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U energy charge 7-12 cents, depends on k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off-peak demand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 demand charge by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4114800" y="2666880"/>
            <a:ext cx="213372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2301120" y="1154160"/>
            <a:ext cx="197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Users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260440" y="1600200"/>
            <a:ext cx="68072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2796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Q &amp; A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n Overview of Myanmar Power Secto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FBAA-2142-4625-BFA8-F8DDA5671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144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78200" indent="-178200"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Institutions: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34080" indent="-178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Ministry of Electricity and Energy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olicies and planning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Regulatory role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Transmission and system control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34080" indent="-178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Enterprises &amp; Corporation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Electric Power Generation Enterprise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Distribution functions: ESE, MESC, YESC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Fuel suppliers: MOGE, MPPE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34080" indent="-178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Private sector participant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ivate power producers (14 operating)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ivate contractors/concessionair for distribution  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3408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9032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17820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178200" indent="-17820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n Overview of Myanmar Power Sector (cont.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7E06-5ABE-4E1C-9215-5FAEEA117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1920" y="7621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64520" indent="-164520"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Recent Statistics: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Installed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grid generation capacity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~ 4,900 MW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Hydropower ~ 3,100 MW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1,100 MW private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Gas-fired ~ 1,600 MW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900MW operating; 622 MW private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Coal ~ 120 MW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Installed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off-grid generation capacity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~ 135 MW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Peak demand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~ 2,500 MW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February 2016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Final electricity sales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in FY2014/15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ESE &amp; MESC ~ 6,333 million kWh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averaged 70 kyats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YESC ~ 4,922 million kWh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averaged 79 kyats) 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Electricity loss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in FY 2014/15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Transmission loss ~ 3.3%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Distribution loss ~ 15 – 18%   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308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452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164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164520" indent="-16452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An Overview of Myanmar Power Sector (cont.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7782-6618-4136-9DD2-D85065881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9144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01680" indent="-301680"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Electricity Tariffs: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Wide range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35 – 150 kyats/kWh  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Uniform tariffs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across the country and time of service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Domestic tariffs” – largely residential customers 35-50 kyats/kWh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Non-residential customers 75-150 kyats/kWh. No demand charge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FY 14/15 financial loss ~ 5.3 kyats/kWh of final sale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Preliminary FY 15/16 loss</a:t>
            </a: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 ~ 22 kyats/kWh of final sales or over [240] billion kyats   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1" marL="565560" indent="-301680">
              <a:spcBef>
                <a:spcPts val="601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lvl="2" marL="754200" indent="-15084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Key Sector Financial Issues: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</a:rPr>
              <a:t>Revenue side: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verall electricity tariffs below the cost of supply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</a:rPr>
              <a:t>Cost side: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Growing demand for electricity…more sales mean more losses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Increase in natural gas cost due to currency depreciation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Expanding investment to meet growing demand and electrification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</a:rPr>
              <a:t>Debt management: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Growing debt financing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</a:rPr>
              <a:t>Contractual obligations: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More contracts with private sector, requiring management of explicit and contingent obligations </a:t>
            </a: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58FB-4EAE-4216-8FE2-E70AD1195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Options for financial sustainability and regulatory policies: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Short-term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urchase more electricity from existing hydro IPPs and neighboring countrie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epare for electricity tariff changes to reflect the cost of supply and to encourage demand-side efficiency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ublic relations outreach on policy changes, including tariffs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ovide transparent subsidies to MOEE/electric enterprises from the State budget.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Establish dedicated power sector regulatory function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0C56-6410-4B2D-AD67-771A206A3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Options for financial sustainability and regulatory policies: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Longer-term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Integrated energy planning &amp; pricing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Continued generation, transmission &amp; distribution efficiency improvement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Demand side management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Scale-up renewable energy sources (e.g. solar, biomass and wind) at the grid and users level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Targeted subsidies for vulnerable consumers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Allow electric enterprises to retain profit for investment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imes New Roman"/>
              </a:rPr>
              <a:t>Prudent debt management </a:t>
            </a: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A283-E6E6-4B79-8F82-67CF91B7C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Annex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23B9-D6D9-40DD-BAE4-63886B32B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nergy Sector Regulatory Arrangement in S.E. Asia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57103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C3BB-79DD-4B61-B10A-6D24EB779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80" y="873000"/>
            <a:ext cx="9105840" cy="5634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963800" y="6485040"/>
            <a:ext cx="53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Economic Research Institute for ASEAN and East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6:55:23Z</dcterms:created>
  <dc:creator>wb199003</dc:creator>
  <dc:description/>
  <dc:language>en-US</dc:language>
  <cp:lastModifiedBy>199003</cp:lastModifiedBy>
  <dcterms:modified xsi:type="dcterms:W3CDTF">2016-05-17T05:09:47Z</dcterms:modified>
  <cp:revision>370</cp:revision>
  <dc:subject/>
  <dc:title>Slide 1</dc:title>
</cp:coreProperties>
</file>